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F1ED3-04AE-40E7-ABEB-E21C3A411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7DB36-DF27-49CB-AA92-392A8DBAA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A7866-D176-4F48-A569-748DADAAB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08B17-0A71-475E-A4C9-6895F13B9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51DC1-4E4E-4C8E-A60A-0DBAC9132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63F11-58F8-4622-B1AC-086144B53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5BD83-8977-4D0B-AFAF-C3C66B009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1740C-C76F-4C29-B2D9-67AAF14D1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62425-8C9D-4A66-AA73-F201B07A5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AD52B-4DEA-4581-B8CF-0504ED65A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95129-3D82-4C05-A63B-8FB94AD6D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C1432-1C0D-4CA2-9C9C-CB3D0E542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24F52-46E1-4EE7-92E5-5223F7143D78}" type="slidenum">
              <a:rPr b="0" lang="es-MX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568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600" spc="-1" strike="noStrike">
                <a:solidFill>
                  <a:srgbClr val="000000"/>
                </a:solidFill>
                <a:latin typeface="Calibri"/>
              </a:rPr>
              <a:t>Rivers Terminology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Vocabul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Condensation: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The cooling of a gas so that it changes into a liquid, for instance as water vapour cools, it condenses to become water droplets, which, when heavy enough, fall as rain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Confluence: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Where two rivers meet and join to form one larger river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Delta: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A build up of sediment at the point where a river meets a sea or lake, due to the water velocity slowing and the river having less energy to carry the sediment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Vocabul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Drainage Basin: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area of land drained by a river and its tributarie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Estuary: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The point at which a river begins to meet the sea. The river will be tidal, meaning that it will have both salt water and fresh water in it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Evaporation: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ater that is warmed, usually by the sun, so that it changes into a gas (water vapour)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Evapo-transpiration: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The combination of evaporation and transpiration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Vocabul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luvial: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relating to a river, from the Latin for wat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Groundwater: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e Perco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Hydrology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study of wa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filtration: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The downward movement of water that seeps into the soil or a porous rock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Mouth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end of the river, where it meets the sea, or a lak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Vocabul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Overland Flow: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When water flows over the surface of the ground. This occurs for a number of reasons: the soil may be saturated and therefore be unable to absorb any more water; the underlying rock may be impermeable or the ground may be froze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ercolation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movement of water through the soil or underlying porous rock. This water collects as groundwat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Vocabul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recipitation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ter falling to Earth in any form: e.g. rain, sleet, hail, snow, and dew, all are encompassed by the term precipit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urface Run-off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e Overland Flo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roughflow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movement of water with in the soil sideways, towards the riv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Vocabul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ranspiration: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The water loss from vegetation into the atmospher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ributaries: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rivers running into the main one, that form part of the same drainage basin syste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Velocity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speed of the flow of the riv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atershed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imaginary dividing line between neighbouring drainage basi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6T18:03:04Z</dcterms:created>
  <dc:creator>Dell_02</dc:creator>
  <dc:description/>
  <dc:language>en-US</dc:language>
  <cp:lastModifiedBy>Dell_02</cp:lastModifiedBy>
  <dcterms:modified xsi:type="dcterms:W3CDTF">2011-01-26T18:17:12Z</dcterms:modified>
  <cp:revision>2</cp:revision>
  <dc:subject/>
  <dc:title>Rivers Terminology</dc:title>
</cp:coreProperties>
</file>